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4ACF-59D3-482C-A098-C23D60FEA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116B-760B-4146-9B6C-88814C340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0E67-416F-45A1-BABD-196ABFD5C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41D5-595D-4FB2-8098-D5F3D864D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7C34-65D3-4F7F-B4D3-9E2EDCB01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9ECF-E5C3-4506-BA89-F6967E82C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C126-9551-42B3-AAEA-C1104B5A4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7414-C939-48AE-8632-DF48C8590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51BF-EE98-407C-830B-A6EA5062E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8711-D15F-4F39-AEA8-45349321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C0BC-72C2-43DD-AFAC-1C9DBB1D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04AE-6C80-4B60-B7E4-E1244B43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866FB-D5F2-41E2-A850-60AEEAAF38A1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7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7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开发组管理员：刘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3.2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结构与规模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最小化框架，实现管理器和专家注册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包装，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服务封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各项子功能独立化，可动态装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统一的基类设置与调试输出接口的支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提供多语控制接口，支持动态界面切换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规模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万行左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成员结构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职能分工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项目管理员、代码提交控制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开发人员、测试人员、文档编写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交流管理人员：包括邮件、论坛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QQ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群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层次结构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管理员：负责整个开发组和项目的协调管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核心组成员：主力开发测试人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普通成员：代码贡献人员和普通文档测试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的项目管理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主力平台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镜像平台：共创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soft)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代码协作与管理工具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任务管理与错误跟踪：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每日构建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a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全程自动发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任务单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VSTrac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时间线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的计划与展望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产品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支持，提供开放的开发接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Delphi 2007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的支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根据用户需求完善其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.NET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或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Java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平台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插件计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网上社区建设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社区，供用户交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团队建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功能演示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参赛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版本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Wizards 0.8.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预览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初步支持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Pasca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脚本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支持自定义编译选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环境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演示内容：代码输入助手、窗体设计工具栏、单元窗体列表、编辑器工具栏、多语切换、专家设置列表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ascal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脚本、源码统计、自定义编译选项设置工具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谢 谢 大 家 ！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欢迎交流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开发组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1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发源于大富翁论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初期目标：基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包、工具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成员：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4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现有产品：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组件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VSTrac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（移植版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创始人：周劲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管理员：周劲羽、刘啸（参赛负责人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什么是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是一组集成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/ C++Builder / BDS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中，用于增强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、提高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可用性及开发效率的免费、开放源码工具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第一个版本发布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002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年底，目前已走过四年的历程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主要面向哪类用户群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主要面对使用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lphi 5 6 7 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++Builder 5 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与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DS 2005  2006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开发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目前的发布版本包括简体中文、繁体中文、英语三种语言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简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参赛版本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目前正准备发布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0.8.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主力开发者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的创始人、管理员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周劲羽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先生曾被评为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产品专家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用户遍布国内外。据目前升级数量的统计，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的用户数目保守估计在四千人以上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用户群分布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开发背景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系列工具占有相当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RAD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市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 Tools AP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接口提供了开放的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架构体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外同类专家产品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GExpert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deRush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astali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odelMaker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等拥有相当用户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国内暂无符合中国人开发习惯的专家产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据此，我们开发了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专家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许可协议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遵循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许可协议 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该协议基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penSourc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官方开源协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IDE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专家包源码未经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开发组授权禁止用于商业目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二次发布时必须附带此协议文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不提供任何明确或隐含的担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责声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专家包特色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简繁英多语言界面支持，方便国内外用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功能强大，部分特色功能属于首创，居国内外领先水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部分特色功能针对中文用户的需求，弥补了国外产品部分功能不实用的缺陷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附带一批成熟的组件包和公共库工具供开发者使用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免费开源，框架体系开放，可供二次开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刘啸</dc:creator>
  <dc:description>2001－2007 CnPack开发组</dc:description>
  <dc:language>en-US</dc:language>
  <cp:lastModifiedBy>Passion</cp:lastModifiedBy>
  <dcterms:modified xsi:type="dcterms:W3CDTF">2007-03-24T13:30:58Z</dcterms:modified>
  <cp:revision>29</cp:revision>
  <dc:subject/>
  <dc:title>CnPack IDE 专家包参赛作品介绍</dc:title>
</cp:coreProperties>
</file>